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341-A103-4AC4-9EF0-A0B1BE3F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97D-6A6A-4294-8463-85B9785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257-A279-4C9D-92CE-36F4BCE6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064-B284-4487-9AAE-21DB09BB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5A1-EF70-48E3-B555-13E0C5C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692-2500-43BA-A46A-F04DA634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583-B482-4174-AAF3-D362BAF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CED-3290-4FF2-8079-04CA6B3A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104-08EE-4046-ABD3-E9E6F74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065-E413-4FDE-A5AC-543688F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5E6-EB89-4679-812B-DB2C36B8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7CE-BF55-46F5-A1CF-6B53F8D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830FF-7B8E-4AA5-A942-81500A312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oice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verbal/auditory qualities of a lead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ok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visual qualities of a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cts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actions of a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deas of Lead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thoughts/ideas of leader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29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bate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re such a thing as a born lead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people be made into lead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say about elections and/or elected offic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anyone be a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0:56:49Z</dcterms:created>
  <dc:creator>Nick Chanese</dc:creator>
  <dc:description/>
  <dc:language>en-US</dc:language>
  <cp:lastModifiedBy/>
  <cp:revision>1</cp:revision>
  <dc:subject/>
  <dc:title/>
</cp:coreProperties>
</file>